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3D5D-2151-4CA5-BD56-637751637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p shows parts of the John Muir and Dinkey Lakes Wilder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drained by the North Fork of the Kings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 of different colors are small watersheds within the N Fk Kings ranging in area from 10 to 20 square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d from Kings Canyon NP on the east by the LeConte-White Div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south is the Kings Canyon,  at 8,200 feet,one of the deepest canyons in USA Spanish Mtn to Kings River S Fk/M Fk confl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north are the headwaters of the San Joaquin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wo large man-made reservoirs and numerous small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300 square miles [288] at elevations from 6,000 to 12,000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about 20 miles wide, narrowing to 15 miles wide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ve spent a lot of energy mapping a disjunct population of Lewisia leeana in this area, expanding the 15 observations made between 1900 and 2008 to almost 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chasing L leeana, I have made more than 2940 observations of more than 173 species of plants and fun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going to talk about the Woodchuck Creek Watershed that had no observations in the Calflora database until five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8 Bill Finch. All Rights Reserv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EEB2-4618-4A0C-8898-9053108A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9D5E-3690-4586-8915-0E2B91D6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0E7-2D9B-4943-A13B-E528D79A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E1D-34D9-4EB2-892C-4C0C126C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217B-7540-48C4-A1D6-E9377EEC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5C2-4C67-4FCE-B603-E6BD3E4A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801D-6215-4D41-8275-5FD22F40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3F58-9C3B-466B-98FD-F3174015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DAA5-A179-42F7-BF5B-12CAABD1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0B0-7513-4022-AA92-69BAC451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F10-8B49-4EE7-AD6C-9BECC91C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215-8C47-48FA-8994-1639B254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ED0E-9FD9-4935-89A7-3554C0B3D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image" Target="../media/image26.jpeg"/><Relationship Id="rId19" Type="http://schemas.openxmlformats.org/officeDocument/2006/relationships/image" Target="../media/image27.jpeg"/><Relationship Id="rId20" Type="http://schemas.openxmlformats.org/officeDocument/2006/relationships/image" Target="../media/image28.jpeg"/><Relationship Id="rId2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atersheds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6305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57600" y="3314880"/>
            <a:ext cx="1028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Woodchuck 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3657600"/>
            <a:ext cx="571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cep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72080" y="4686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pp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anch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72080" y="38862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i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anch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48006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ow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anch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00880" y="365760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pp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72080" y="240048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pper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ower Bo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2629080"/>
            <a:ext cx="125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lue Canyon 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3657600"/>
            <a:ext cx="57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an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15080" y="5257800"/>
            <a:ext cx="914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odgers 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6480" y="4572000"/>
            <a:ext cx="571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Vall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72280" y="1828800"/>
            <a:ext cx="571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F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217188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ad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r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2971800"/>
            <a:ext cx="57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pp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5600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Gar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ad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5829480"/>
            <a:ext cx="571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an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6480" y="5829480"/>
            <a:ext cx="7999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ombst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0"/>
            <a:ext cx="57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e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143000"/>
            <a:ext cx="57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wam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57480"/>
            <a:ext cx="57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li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a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457200"/>
            <a:ext cx="57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pp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Hel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rshim La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0280" y="-114480"/>
            <a:ext cx="571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yo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a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0"/>
            <a:ext cx="57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a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00680" y="228600"/>
            <a:ext cx="57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pp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r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00680" y="1143000"/>
            <a:ext cx="57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ow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r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685800"/>
            <a:ext cx="57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ur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r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57680" y="114480"/>
            <a:ext cx="57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u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1486080"/>
            <a:ext cx="57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ow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Hel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15080" y="723960"/>
            <a:ext cx="571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Fle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480" y="80028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480" y="1943280"/>
            <a:ext cx="79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xchequ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14480" y="457200"/>
            <a:ext cx="571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it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00480" y="251460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h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14880" y="2057400"/>
            <a:ext cx="685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nder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886200"/>
            <a:ext cx="1028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Granite Go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560088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Gorge of Desp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43880" y="457200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an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01080" y="422928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lp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-114480"/>
            <a:ext cx="8762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enger 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72400" y="4457880"/>
            <a:ext cx="57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id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9080" y="6248520"/>
            <a:ext cx="3657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rainages with/near Observations of </a:t>
            </a:r>
            <a:r>
              <a:rPr b="1" i="1" lang="en-U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ewisia leea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ierra National Forest      Fresno County, Californ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480" y="-1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60880" y="2322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80880"/>
            <a:ext cx="853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Under-studied Area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ierra National Fore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Fresno County, Califor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Plenty of Citizen Science to Do in Beautiful Wilde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Watersheds with few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lflora enables overlays of watersh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“What Grows Here?” feature shows observations in an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atersheds range from about 10 m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to 20 m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 watersheds in the southern John Muir Wilderness of Sierra NF have three or fewer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4724280" cy="2281320"/>
            <a:chOff x="0" y="0"/>
            <a:chExt cx="4724280" cy="2281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24280" cy="22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257280" y="874800"/>
              <a:ext cx="100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.5 mi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724280" y="0"/>
            <a:ext cx="4419720" cy="2379600"/>
            <a:chOff x="4724280" y="0"/>
            <a:chExt cx="4419720" cy="237960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4724280" y="0"/>
              <a:ext cx="4419720" cy="23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475040" y="762120"/>
              <a:ext cx="100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.7 mi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572000" y="2209680"/>
            <a:ext cx="4572000" cy="2239920"/>
            <a:chOff x="4572000" y="2209680"/>
            <a:chExt cx="4572000" cy="2239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4572000" y="2209680"/>
              <a:ext cx="457200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703640" y="2895480"/>
              <a:ext cx="100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.3 mi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0" y="2209680"/>
            <a:ext cx="4705200" cy="2371680"/>
            <a:chOff x="0" y="2209680"/>
            <a:chExt cx="4705200" cy="2371680"/>
          </a:xfrm>
        </p:grpSpPr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0" y="2209680"/>
              <a:ext cx="470520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055680" y="2895480"/>
              <a:ext cx="100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.3 mi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0" y="4313160"/>
            <a:ext cx="4572000" cy="2544840"/>
            <a:chOff x="0" y="4313160"/>
            <a:chExt cx="4572000" cy="2544840"/>
          </a:xfrm>
        </p:grpSpPr>
        <p:pic>
          <p:nvPicPr>
            <p:cNvPr id="109" name="" descr=""/>
            <p:cNvPicPr/>
            <p:nvPr/>
          </p:nvPicPr>
          <p:blipFill>
            <a:blip r:embed="rId5"/>
            <a:stretch/>
          </p:blipFill>
          <p:spPr>
            <a:xfrm>
              <a:off x="0" y="4313160"/>
              <a:ext cx="457200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979360" y="5105520"/>
              <a:ext cx="100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1.0 mi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514760" y="4505400"/>
            <a:ext cx="4629240" cy="2352600"/>
            <a:chOff x="4514760" y="4505400"/>
            <a:chExt cx="4629240" cy="2352600"/>
          </a:xfrm>
        </p:grpSpPr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4514760" y="4505400"/>
              <a:ext cx="462924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932240" y="5410080"/>
              <a:ext cx="100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.5 mi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47960" y="579240"/>
            <a:ext cx="434340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Botany observations posted from iNaturalist to Calflora in the Woodchuck Creek watershed, an example of a formerly poorly studied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4491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182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2271600"/>
            <a:ext cx="419112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s area showed zero observations in the Calflora database when I started working it five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oodchuck Creek WS = 15.3 m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oodchuck Creek watershed is a four hour hike from the trail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 have posted 97 species on iNaturalist in thi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nine shown here have been posted from iNaturalist to/by Calfl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f you want your data to be in the Calflora Database, you need to post it there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lants you might expect to find in these understudied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03480" y="163656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Aconitum columbianum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122" name="Allium obtusum" descr=""/>
          <p:cNvPicPr/>
          <p:nvPr/>
        </p:nvPicPr>
        <p:blipFill>
          <a:blip r:embed="rId2"/>
          <a:stretch/>
        </p:blipFill>
        <p:spPr>
          <a:xfrm>
            <a:off x="1943280" y="457200"/>
            <a:ext cx="1942920" cy="1714680"/>
          </a:xfrm>
          <a:prstGeom prst="rect">
            <a:avLst/>
          </a:prstGeom>
          <a:ln w="0">
            <a:noFill/>
          </a:ln>
        </p:spPr>
      </p:pic>
      <p:pic>
        <p:nvPicPr>
          <p:cNvPr id="123" name="Apocynum androsaemifolium" descr=""/>
          <p:cNvPicPr/>
          <p:nvPr/>
        </p:nvPicPr>
        <p:blipFill>
          <a:blip r:embed="rId3"/>
          <a:stretch/>
        </p:blipFill>
        <p:spPr>
          <a:xfrm>
            <a:off x="3886200" y="457200"/>
            <a:ext cx="1657440" cy="1666800"/>
          </a:xfrm>
          <a:prstGeom prst="rect">
            <a:avLst/>
          </a:prstGeom>
          <a:ln w="0">
            <a:noFill/>
          </a:ln>
        </p:spPr>
      </p:pic>
      <p:pic>
        <p:nvPicPr>
          <p:cNvPr id="124" name="Aquilegia formosa" descr=""/>
          <p:cNvPicPr/>
          <p:nvPr/>
        </p:nvPicPr>
        <p:blipFill>
          <a:blip r:embed="rId4"/>
          <a:stretch/>
        </p:blipFill>
        <p:spPr>
          <a:xfrm>
            <a:off x="5486400" y="457200"/>
            <a:ext cx="1771560" cy="1638360"/>
          </a:xfrm>
          <a:prstGeom prst="rect">
            <a:avLst/>
          </a:prstGeom>
          <a:ln w="0">
            <a:noFill/>
          </a:ln>
        </p:spPr>
      </p:pic>
      <p:pic>
        <p:nvPicPr>
          <p:cNvPr id="125" name="Aquilegia pubescens" descr=""/>
          <p:cNvPicPr/>
          <p:nvPr/>
        </p:nvPicPr>
        <p:blipFill>
          <a:blip r:embed="rId5"/>
          <a:stretch/>
        </p:blipFill>
        <p:spPr>
          <a:xfrm>
            <a:off x="7238880" y="457200"/>
            <a:ext cx="157176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38800" y="8305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alochortus leichtlinii" descr=""/>
          <p:cNvPicPr/>
          <p:nvPr/>
        </p:nvPicPr>
        <p:blipFill>
          <a:blip r:embed="rId6"/>
          <a:stretch/>
        </p:blipFill>
        <p:spPr>
          <a:xfrm>
            <a:off x="533520" y="2133720"/>
            <a:ext cx="1714320" cy="1523880"/>
          </a:xfrm>
          <a:prstGeom prst="rect">
            <a:avLst/>
          </a:prstGeom>
          <a:ln w="0">
            <a:noFill/>
          </a:ln>
        </p:spPr>
      </p:pic>
      <p:pic>
        <p:nvPicPr>
          <p:cNvPr id="128" name="Caltha leptosepala" descr=""/>
          <p:cNvPicPr/>
          <p:nvPr/>
        </p:nvPicPr>
        <p:blipFill>
          <a:blip r:embed="rId7"/>
          <a:stretch/>
        </p:blipFill>
        <p:spPr>
          <a:xfrm>
            <a:off x="2209680" y="2133720"/>
            <a:ext cx="1676520" cy="1527120"/>
          </a:xfrm>
          <a:prstGeom prst="rect">
            <a:avLst/>
          </a:prstGeom>
          <a:ln w="0">
            <a:noFill/>
          </a:ln>
        </p:spPr>
      </p:pic>
      <p:pic>
        <p:nvPicPr>
          <p:cNvPr id="129" name="Calyptridium monospermum" descr=""/>
          <p:cNvPicPr/>
          <p:nvPr/>
        </p:nvPicPr>
        <p:blipFill>
          <a:blip r:embed="rId8"/>
          <a:stretch/>
        </p:blipFill>
        <p:spPr>
          <a:xfrm>
            <a:off x="3886200" y="2057400"/>
            <a:ext cx="1600200" cy="1514520"/>
          </a:xfrm>
          <a:prstGeom prst="rect">
            <a:avLst/>
          </a:prstGeom>
          <a:ln w="0">
            <a:noFill/>
          </a:ln>
        </p:spPr>
      </p:pic>
      <p:pic>
        <p:nvPicPr>
          <p:cNvPr id="130" name="Castilleja lemmonii" descr=""/>
          <p:cNvPicPr/>
          <p:nvPr/>
        </p:nvPicPr>
        <p:blipFill>
          <a:blip r:embed="rId9"/>
          <a:stretch/>
        </p:blipFill>
        <p:spPr>
          <a:xfrm>
            <a:off x="5486400" y="2057400"/>
            <a:ext cx="1428840" cy="1514520"/>
          </a:xfrm>
          <a:prstGeom prst="rect">
            <a:avLst/>
          </a:prstGeom>
          <a:ln w="0">
            <a:noFill/>
          </a:ln>
        </p:spPr>
      </p:pic>
      <p:pic>
        <p:nvPicPr>
          <p:cNvPr id="131" name="Castilleja nana" descr=""/>
          <p:cNvPicPr/>
          <p:nvPr/>
        </p:nvPicPr>
        <p:blipFill>
          <a:blip r:embed="rId10"/>
          <a:stretch/>
        </p:blipFill>
        <p:spPr>
          <a:xfrm>
            <a:off x="6858000" y="2057400"/>
            <a:ext cx="1486080" cy="1514520"/>
          </a:xfrm>
          <a:prstGeom prst="rect">
            <a:avLst/>
          </a:prstGeom>
          <a:ln w="0">
            <a:noFill/>
          </a:ln>
        </p:spPr>
      </p:pic>
      <p:pic>
        <p:nvPicPr>
          <p:cNvPr id="132" name="Chamerion angustifolium" descr=""/>
          <p:cNvPicPr/>
          <p:nvPr/>
        </p:nvPicPr>
        <p:blipFill>
          <a:blip r:embed="rId11"/>
          <a:stretch/>
        </p:blipFill>
        <p:spPr>
          <a:xfrm>
            <a:off x="5486400" y="3505320"/>
            <a:ext cx="1600200" cy="1562040"/>
          </a:xfrm>
          <a:prstGeom prst="rect">
            <a:avLst/>
          </a:prstGeom>
          <a:ln w="0">
            <a:noFill/>
          </a:ln>
        </p:spPr>
      </p:pic>
      <p:pic>
        <p:nvPicPr>
          <p:cNvPr id="133" name="Chrysolepis sempervirens" descr=""/>
          <p:cNvPicPr/>
          <p:nvPr/>
        </p:nvPicPr>
        <p:blipFill>
          <a:blip r:embed="rId12"/>
          <a:stretch/>
        </p:blipFill>
        <p:spPr>
          <a:xfrm>
            <a:off x="3733920" y="350532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134" name="Collinsia torreyi" descr=""/>
          <p:cNvPicPr/>
          <p:nvPr/>
        </p:nvPicPr>
        <p:blipFill>
          <a:blip r:embed="rId13"/>
          <a:stretch/>
        </p:blipFill>
        <p:spPr>
          <a:xfrm>
            <a:off x="2057400" y="3581280"/>
            <a:ext cx="1714680" cy="1609920"/>
          </a:xfrm>
          <a:prstGeom prst="rect">
            <a:avLst/>
          </a:prstGeom>
          <a:ln w="0">
            <a:noFill/>
          </a:ln>
        </p:spPr>
      </p:pic>
      <p:pic>
        <p:nvPicPr>
          <p:cNvPr id="135" name="Cymopterus terebinthinus" descr=""/>
          <p:cNvPicPr/>
          <p:nvPr/>
        </p:nvPicPr>
        <p:blipFill>
          <a:blip r:embed="rId14"/>
          <a:stretch/>
        </p:blipFill>
        <p:spPr>
          <a:xfrm>
            <a:off x="380880" y="3581280"/>
            <a:ext cx="1714680" cy="1581120"/>
          </a:xfrm>
          <a:prstGeom prst="rect">
            <a:avLst/>
          </a:prstGeom>
          <a:ln w="0">
            <a:noFill/>
          </a:ln>
        </p:spPr>
      </p:pic>
      <p:pic>
        <p:nvPicPr>
          <p:cNvPr id="136" name="Epilobium obcordatum" descr=""/>
          <p:cNvPicPr/>
          <p:nvPr/>
        </p:nvPicPr>
        <p:blipFill>
          <a:blip r:embed="rId15"/>
          <a:stretch/>
        </p:blipFill>
        <p:spPr>
          <a:xfrm>
            <a:off x="380880" y="5029200"/>
            <a:ext cx="1714680" cy="1562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241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Erigeron coulteri" descr=""/>
          <p:cNvPicPr/>
          <p:nvPr/>
        </p:nvPicPr>
        <p:blipFill>
          <a:blip r:embed="rId16"/>
          <a:stretch/>
        </p:blipFill>
        <p:spPr>
          <a:xfrm>
            <a:off x="7010280" y="3505320"/>
            <a:ext cx="1600200" cy="1582560"/>
          </a:xfrm>
          <a:prstGeom prst="rect">
            <a:avLst/>
          </a:prstGeom>
          <a:ln w="0">
            <a:noFill/>
          </a:ln>
        </p:spPr>
      </p:pic>
      <p:pic>
        <p:nvPicPr>
          <p:cNvPr id="139" name="Eriogonum incanum" descr=""/>
          <p:cNvPicPr/>
          <p:nvPr/>
        </p:nvPicPr>
        <p:blipFill>
          <a:blip r:embed="rId17"/>
          <a:stretch/>
        </p:blipFill>
        <p:spPr>
          <a:xfrm>
            <a:off x="2057400" y="4876920"/>
            <a:ext cx="1828800" cy="1695240"/>
          </a:xfrm>
          <a:prstGeom prst="rect">
            <a:avLst/>
          </a:prstGeom>
          <a:ln w="0">
            <a:noFill/>
          </a:ln>
        </p:spPr>
      </p:pic>
      <p:pic>
        <p:nvPicPr>
          <p:cNvPr id="140" name="Eriophyllum lanatum var" descr=""/>
          <p:cNvPicPr/>
          <p:nvPr/>
        </p:nvPicPr>
        <p:blipFill>
          <a:blip r:embed="rId18"/>
          <a:stretch/>
        </p:blipFill>
        <p:spPr>
          <a:xfrm>
            <a:off x="3886200" y="4952880"/>
            <a:ext cx="1647720" cy="1685880"/>
          </a:xfrm>
          <a:prstGeom prst="rect">
            <a:avLst/>
          </a:prstGeom>
          <a:ln w="0">
            <a:noFill/>
          </a:ln>
        </p:spPr>
      </p:pic>
      <p:pic>
        <p:nvPicPr>
          <p:cNvPr id="141" name="Frasera speciosa" descr=""/>
          <p:cNvPicPr/>
          <p:nvPr/>
        </p:nvPicPr>
        <p:blipFill>
          <a:blip r:embed="rId19"/>
          <a:stretch/>
        </p:blipFill>
        <p:spPr>
          <a:xfrm>
            <a:off x="5486400" y="5029200"/>
            <a:ext cx="1781280" cy="1657440"/>
          </a:xfrm>
          <a:prstGeom prst="rect">
            <a:avLst/>
          </a:prstGeom>
          <a:ln w="0">
            <a:noFill/>
          </a:ln>
        </p:spPr>
      </p:pic>
      <p:pic>
        <p:nvPicPr>
          <p:cNvPr id="142" name="Lewisia leeana" descr=""/>
          <p:cNvPicPr/>
          <p:nvPr/>
        </p:nvPicPr>
        <p:blipFill>
          <a:blip r:embed="rId20"/>
          <a:stretch/>
        </p:blipFill>
        <p:spPr>
          <a:xfrm>
            <a:off x="7162920" y="5078520"/>
            <a:ext cx="160020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4T21:28:40Z</dcterms:created>
  <dc:creator>Bill Finch</dc:creator>
  <dc:description/>
  <dc:language>en-US</dc:language>
  <cp:lastModifiedBy>Bill Finch</cp:lastModifiedBy>
  <dcterms:modified xsi:type="dcterms:W3CDTF">2018-12-06T02:36:45Z</dcterms:modified>
  <cp:revision>29</cp:revision>
  <dc:subject/>
  <dc:title>Slide 1</dc:title>
</cp:coreProperties>
</file>