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4E4A-7A4A-4F71-9B91-4FFDAA84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p shows parts of the John Muir and Dinkey Lakes Wilde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drained by the North Fork of the Kings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of different colors are small watersheds within the N Fk Kings ranging in area from 10 to 20 square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d from Kings Canyon NP on the east by the LeConte-White Di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south is the Kings Canyon,  at 8,200 feet,one of the deepest canyons in USA Spanish Mtn to Kings River S Fk/M Fk co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north are the headwaters of the San Joaqui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wo large man-made reservoirs and numerous small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300 square miles [288] at elevations from 6,000 to 12,0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about 20 miles wide, narrowing to 15 miles wide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ve spent a lot of energy mapping a disjunct population of Lewisia leeana in this area, expanding the 15 observations made between 1900 and 2008 to almost 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chasing L leeana, I have made more than 2940 observations of more than 173 species of plants and 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talk about the Woodchuck Creek Watershed that had no observations in the Calflora database until five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8 Bill Finch. All Rights Re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F49-0909-49BF-81FB-9B9B95E2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313-C266-4BE5-A836-F4BED810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F26-941F-4DA4-BD53-03654725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0F9-4914-4023-86CC-6C2A89BB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99E-36B2-4BE8-8EB6-9262F63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02E-CF9B-462E-8C3F-4DA6BA9A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109-1816-4ABD-8F1C-ACE49B1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B67-408B-4CA9-821C-7FEF005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2BC-2896-4B61-97D9-75B8D8A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AAD-2D47-4AAF-B46E-5C12210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7D5-CB26-4FB5-97DD-3FC5FE8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351-D1D7-425F-9080-729BA81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0F36-1E61-4456-9EA4-C371CF3F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jpeg"/><Relationship Id="rId20" Type="http://schemas.openxmlformats.org/officeDocument/2006/relationships/image" Target="../media/image28.jpeg"/><Relationship Id="rId2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atersheds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305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331488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oodchuck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657600"/>
            <a:ext cx="5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cep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72080" y="4686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nch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720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i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nch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8006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nch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00880" y="36576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72080" y="240048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 Bo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629080"/>
            <a:ext cx="12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lue Canyon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36576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15080" y="525780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odgers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6480" y="457200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al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72280" y="182880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17188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a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r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9718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5600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ar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a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5829480"/>
            <a:ext cx="571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6480" y="5829480"/>
            <a:ext cx="799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mbst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1430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wa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5748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li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5720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l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rshim 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0280" y="-114480"/>
            <a:ext cx="571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y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00680" y="228600"/>
            <a:ext cx="57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00680" y="1143000"/>
            <a:ext cx="57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685800"/>
            <a:ext cx="57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ur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57680" y="114480"/>
            <a:ext cx="57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1486080"/>
            <a:ext cx="57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l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15080" y="723960"/>
            <a:ext cx="571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le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480" y="80028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480" y="1943280"/>
            <a:ext cx="79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xcheq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14480" y="457200"/>
            <a:ext cx="5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it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00480" y="25146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14880" y="205740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d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88620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ranite G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60088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orge of Desp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3880" y="45720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y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1080" y="422928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l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-114480"/>
            <a:ext cx="8762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enger Cr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445788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9080" y="6248520"/>
            <a:ext cx="36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rainages with/near Observations of </a:t>
            </a:r>
            <a:r>
              <a:rPr b="1" i="1" lang="en-U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ewisia lee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erra National Forest      Fresno County, Califor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48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088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08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nder-studied Area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erra National For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Fresno County,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lenty of Citizen Science to Do in Beautiful Wilde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Watersheds with few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lflora enables overlays of watersh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“What Grows Here?” feature shows observations in 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tersheds range from about 10 m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o 20 m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 watersheds in the southern John Muir Wilderness of Sierra NF have three or few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4724280" cy="2281320"/>
            <a:chOff x="0" y="0"/>
            <a:chExt cx="4724280" cy="2281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2428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257280" y="87480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.5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724280" y="0"/>
            <a:ext cx="4419720" cy="2379600"/>
            <a:chOff x="4724280" y="0"/>
            <a:chExt cx="4419720" cy="23796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724280" y="0"/>
              <a:ext cx="4419720" cy="23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475040" y="76212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7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572000" y="2209680"/>
            <a:ext cx="4572000" cy="2239920"/>
            <a:chOff x="4572000" y="2209680"/>
            <a:chExt cx="4572000" cy="2239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572000" y="2209680"/>
              <a:ext cx="457200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703640" y="289548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.3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2209680"/>
            <a:ext cx="4705200" cy="2371680"/>
            <a:chOff x="0" y="2209680"/>
            <a:chExt cx="4705200" cy="237168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0" y="2209680"/>
              <a:ext cx="47052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55680" y="289548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.3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4313160"/>
            <a:ext cx="4572000" cy="2544840"/>
            <a:chOff x="0" y="4313160"/>
            <a:chExt cx="4572000" cy="2544840"/>
          </a:xfrm>
        </p:grpSpPr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0" y="4313160"/>
              <a:ext cx="457200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979360" y="510552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.0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14760" y="4505400"/>
            <a:ext cx="4629240" cy="2352600"/>
            <a:chOff x="4514760" y="4505400"/>
            <a:chExt cx="4629240" cy="235260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4514760" y="4505400"/>
              <a:ext cx="46292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932240" y="541008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5 m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47960" y="579240"/>
            <a:ext cx="43434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tany observations posted from iNaturalist to Calflora in the Woodchuck Creek watershed, an example of a formerly poorly studie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271600"/>
            <a:ext cx="41911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area showed zero observations in the Calflora database when I started working it five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oodchuck Creek WS = 15.3 m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oodchuck Creek watershed is a four hour hike from the trail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have posted 97 species on iNaturalist in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nine shown here have been posted from iNaturalist to/by Calf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you want your data to be in the Calflora Database, you need to post it ther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lants you might expect to find in these understudi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03480" y="16365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conitum columbianum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14320" cy="1685880"/>
          </a:xfrm>
          <a:prstGeom prst="rect">
            <a:avLst/>
          </a:prstGeom>
          <a:ln w="0">
            <a:noFill/>
          </a:ln>
        </p:spPr>
      </p:pic>
      <p:pic>
        <p:nvPicPr>
          <p:cNvPr id="122" name="Allium obtusum" descr=""/>
          <p:cNvPicPr/>
          <p:nvPr/>
        </p:nvPicPr>
        <p:blipFill>
          <a:blip r:embed="rId2"/>
          <a:stretch/>
        </p:blipFill>
        <p:spPr>
          <a:xfrm>
            <a:off x="1943280" y="457200"/>
            <a:ext cx="19429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Apocynum androsaemifolium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65744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Aquilegia formosa" descr=""/>
          <p:cNvPicPr/>
          <p:nvPr/>
        </p:nvPicPr>
        <p:blipFill>
          <a:blip r:embed="rId4"/>
          <a:stretch/>
        </p:blipFill>
        <p:spPr>
          <a:xfrm>
            <a:off x="5486400" y="457200"/>
            <a:ext cx="1771560" cy="1638360"/>
          </a:xfrm>
          <a:prstGeom prst="rect">
            <a:avLst/>
          </a:prstGeom>
          <a:ln w="0">
            <a:noFill/>
          </a:ln>
        </p:spPr>
      </p:pic>
      <p:pic>
        <p:nvPicPr>
          <p:cNvPr id="125" name="Aquilegia pubescens" descr=""/>
          <p:cNvPicPr/>
          <p:nvPr/>
        </p:nvPicPr>
        <p:blipFill>
          <a:blip r:embed="rId5"/>
          <a:stretch/>
        </p:blipFill>
        <p:spPr>
          <a:xfrm>
            <a:off x="7238880" y="457200"/>
            <a:ext cx="157176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38800" y="8305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lochortus leichtlinii" descr=""/>
          <p:cNvPicPr/>
          <p:nvPr/>
        </p:nvPicPr>
        <p:blipFill>
          <a:blip r:embed="rId6"/>
          <a:stretch/>
        </p:blipFill>
        <p:spPr>
          <a:xfrm>
            <a:off x="533520" y="2133720"/>
            <a:ext cx="171432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Caltha leptosepala" descr=""/>
          <p:cNvPicPr/>
          <p:nvPr/>
        </p:nvPicPr>
        <p:blipFill>
          <a:blip r:embed="rId7"/>
          <a:stretch/>
        </p:blipFill>
        <p:spPr>
          <a:xfrm>
            <a:off x="2209680" y="2133720"/>
            <a:ext cx="1676520" cy="1527120"/>
          </a:xfrm>
          <a:prstGeom prst="rect">
            <a:avLst/>
          </a:prstGeom>
          <a:ln w="0">
            <a:noFill/>
          </a:ln>
        </p:spPr>
      </p:pic>
      <p:pic>
        <p:nvPicPr>
          <p:cNvPr id="129" name="Calyptridium monospermum" descr=""/>
          <p:cNvPicPr/>
          <p:nvPr/>
        </p:nvPicPr>
        <p:blipFill>
          <a:blip r:embed="rId8"/>
          <a:stretch/>
        </p:blipFill>
        <p:spPr>
          <a:xfrm>
            <a:off x="3886200" y="2057400"/>
            <a:ext cx="1600200" cy="1514520"/>
          </a:xfrm>
          <a:prstGeom prst="rect">
            <a:avLst/>
          </a:prstGeom>
          <a:ln w="0">
            <a:noFill/>
          </a:ln>
        </p:spPr>
      </p:pic>
      <p:pic>
        <p:nvPicPr>
          <p:cNvPr id="130" name="Castilleja lemmonii" descr=""/>
          <p:cNvPicPr/>
          <p:nvPr/>
        </p:nvPicPr>
        <p:blipFill>
          <a:blip r:embed="rId9"/>
          <a:stretch/>
        </p:blipFill>
        <p:spPr>
          <a:xfrm>
            <a:off x="5486400" y="205740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131" name="Castilleja nana" descr=""/>
          <p:cNvPicPr/>
          <p:nvPr/>
        </p:nvPicPr>
        <p:blipFill>
          <a:blip r:embed="rId10"/>
          <a:stretch/>
        </p:blipFill>
        <p:spPr>
          <a:xfrm>
            <a:off x="6858000" y="2057400"/>
            <a:ext cx="1486080" cy="1514520"/>
          </a:xfrm>
          <a:prstGeom prst="rect">
            <a:avLst/>
          </a:prstGeom>
          <a:ln w="0">
            <a:noFill/>
          </a:ln>
        </p:spPr>
      </p:pic>
      <p:pic>
        <p:nvPicPr>
          <p:cNvPr id="132" name="Chamerion angustifolium" descr=""/>
          <p:cNvPicPr/>
          <p:nvPr/>
        </p:nvPicPr>
        <p:blipFill>
          <a:blip r:embed="rId11"/>
          <a:stretch/>
        </p:blipFill>
        <p:spPr>
          <a:xfrm>
            <a:off x="5486400" y="350532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33" name="Chrysolepis sempervirens" descr=""/>
          <p:cNvPicPr/>
          <p:nvPr/>
        </p:nvPicPr>
        <p:blipFill>
          <a:blip r:embed="rId12"/>
          <a:stretch/>
        </p:blipFill>
        <p:spPr>
          <a:xfrm>
            <a:off x="3733920" y="35053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Collinsia torreyi" descr=""/>
          <p:cNvPicPr/>
          <p:nvPr/>
        </p:nvPicPr>
        <p:blipFill>
          <a:blip r:embed="rId13"/>
          <a:stretch/>
        </p:blipFill>
        <p:spPr>
          <a:xfrm>
            <a:off x="2057400" y="3581280"/>
            <a:ext cx="1714680" cy="1609920"/>
          </a:xfrm>
          <a:prstGeom prst="rect">
            <a:avLst/>
          </a:prstGeom>
          <a:ln w="0">
            <a:noFill/>
          </a:ln>
        </p:spPr>
      </p:pic>
      <p:pic>
        <p:nvPicPr>
          <p:cNvPr id="135" name="Cymopterus terebinthinus" descr=""/>
          <p:cNvPicPr/>
          <p:nvPr/>
        </p:nvPicPr>
        <p:blipFill>
          <a:blip r:embed="rId14"/>
          <a:stretch/>
        </p:blipFill>
        <p:spPr>
          <a:xfrm>
            <a:off x="380880" y="358128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136" name="Epilobium obcordatum" descr=""/>
          <p:cNvPicPr/>
          <p:nvPr/>
        </p:nvPicPr>
        <p:blipFill>
          <a:blip r:embed="rId15"/>
          <a:stretch/>
        </p:blipFill>
        <p:spPr>
          <a:xfrm>
            <a:off x="380880" y="5029200"/>
            <a:ext cx="1714680" cy="156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41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Erigeron coulteri" descr=""/>
          <p:cNvPicPr/>
          <p:nvPr/>
        </p:nvPicPr>
        <p:blipFill>
          <a:blip r:embed="rId16"/>
          <a:stretch/>
        </p:blipFill>
        <p:spPr>
          <a:xfrm>
            <a:off x="7010280" y="3505320"/>
            <a:ext cx="1600200" cy="1582560"/>
          </a:xfrm>
          <a:prstGeom prst="rect">
            <a:avLst/>
          </a:prstGeom>
          <a:ln w="0">
            <a:noFill/>
          </a:ln>
        </p:spPr>
      </p:pic>
      <p:pic>
        <p:nvPicPr>
          <p:cNvPr id="139" name="Eriogonum incanum" descr=""/>
          <p:cNvPicPr/>
          <p:nvPr/>
        </p:nvPicPr>
        <p:blipFill>
          <a:blip r:embed="rId17"/>
          <a:stretch/>
        </p:blipFill>
        <p:spPr>
          <a:xfrm>
            <a:off x="2057400" y="4876920"/>
            <a:ext cx="1828800" cy="1695240"/>
          </a:xfrm>
          <a:prstGeom prst="rect">
            <a:avLst/>
          </a:prstGeom>
          <a:ln w="0">
            <a:noFill/>
          </a:ln>
        </p:spPr>
      </p:pic>
      <p:pic>
        <p:nvPicPr>
          <p:cNvPr id="140" name="Eriophyllum lanatum var" descr=""/>
          <p:cNvPicPr/>
          <p:nvPr/>
        </p:nvPicPr>
        <p:blipFill>
          <a:blip r:embed="rId18"/>
          <a:stretch/>
        </p:blipFill>
        <p:spPr>
          <a:xfrm>
            <a:off x="3886200" y="4952880"/>
            <a:ext cx="164772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Frasera speciosa" descr=""/>
          <p:cNvPicPr/>
          <p:nvPr/>
        </p:nvPicPr>
        <p:blipFill>
          <a:blip r:embed="rId19"/>
          <a:stretch/>
        </p:blipFill>
        <p:spPr>
          <a:xfrm>
            <a:off x="5486400" y="5029200"/>
            <a:ext cx="17812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Lewisia leeana" descr=""/>
          <p:cNvPicPr/>
          <p:nvPr/>
        </p:nvPicPr>
        <p:blipFill>
          <a:blip r:embed="rId20"/>
          <a:stretch/>
        </p:blipFill>
        <p:spPr>
          <a:xfrm>
            <a:off x="7162920" y="5078520"/>
            <a:ext cx="16002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21:28:40Z</dcterms:created>
  <dc:creator>Bill Finch</dc:creator>
  <dc:description/>
  <dc:language>en-US</dc:language>
  <cp:lastModifiedBy>Bill Finch</cp:lastModifiedBy>
  <dcterms:modified xsi:type="dcterms:W3CDTF">2018-12-06T02:36:45Z</dcterms:modified>
  <cp:revision>29</cp:revision>
  <dc:subject/>
  <dc:title>Slide 1</dc:title>
</cp:coreProperties>
</file>